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6FA6-2059-4D2A-95FE-771713485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767C-A6AF-45EF-AE3F-D2D52B4F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5BA6-EBDA-48D6-B09C-A17FCAB86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8322-9017-4FFB-89B0-679481595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8235-A714-43C6-B9BE-CE0155D1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4BAF-A489-4E99-B461-26904696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DD71-398F-4686-8888-220A7EFD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FB80-4A24-4002-BB8B-05C98EF1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4A41-C151-4D51-83A8-AE6B9BE0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9CC9-9E39-4178-AC25-B6F77097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1903-5D1D-422D-81AD-BBFAAD05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A899-80E7-4D13-A790-A43E0948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E6DD-1309-415D-8B21-47613FDBA3D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Regulated Autom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3320" y="3656880"/>
            <a:ext cx="5426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3333cc"/>
                </a:solidFill>
                <a:latin typeface="Times New Roman"/>
              </a:rPr>
              <a:t>Alexander Medun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ist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3723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 a pushdown automaton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and control language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ccepts a string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if and only i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tains a control string according to which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kes a sequence of moves so it reaches a final configuration after reading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371600"/>
            <a:ext cx="7772400" cy="533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295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ushdown automaton is a 7-tu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752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209680"/>
            <a:ext cx="754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3962520"/>
            <a:ext cx="7772400" cy="21333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124080"/>
            <a:ext cx="7772400" cy="6858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95280"/>
            <a:ext cx="792468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n alphabet of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ule labe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Let every ru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labeled with a unique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200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962520"/>
            <a:ext cx="8077320" cy="20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move from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q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Apay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xwq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371600"/>
            <a:ext cx="7772400" cy="1676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371600"/>
            <a:ext cx="784872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ny configuration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200400"/>
            <a:ext cx="7772400" cy="2666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200400"/>
            <a:ext cx="8153280" cy="27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there exist a sequence of configuration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whe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kes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written a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371600"/>
            <a:ext cx="79246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 With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accepts its language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,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 Fami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371600"/>
            <a:ext cx="8077320" cy="43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ine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context-free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recursively enumerable langua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anguages accepted by PDAs regulated by regul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anguages accepted by PDAs regulated by line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. and its Proof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37160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371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640" y="21330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2920" y="2666520"/>
            <a:ext cx="536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cl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1840" y="3352320"/>
            <a:ext cx="42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6280" y="3961440"/>
            <a:ext cx="320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26080" y="4742280"/>
            <a:ext cx="324864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20000" y="4742280"/>
            <a:ext cx="101736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5909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8720" y="5409360"/>
            <a:ext cx="715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regular grammar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rules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5053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. and its Proof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219320"/>
            <a:ext cx="7848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ransform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regulated by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to a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236124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8851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54853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t of final state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ate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5486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14600" y="4437720"/>
            <a:ext cx="229608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ew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724280" y="4724280"/>
            <a:ext cx="137160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75248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75248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1640" y="28188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39920" y="3047040"/>
            <a:ext cx="75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4038480"/>
            <a:ext cx="7772400" cy="2057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371600"/>
            <a:ext cx="79246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sider two consecutive moves made by a pushdown automaton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during the first move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oes not shorten its pushdown and during the second move it does,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akes a turn during the second m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one-tur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it makes no more than one turn with either of its pushdowns during any computation starting from an initial configu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aper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493640"/>
            <a:ext cx="8001000" cy="48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ted Pushdown Automat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: Acta Cybernetica, Vol. 2000, No. 4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S, p. 653-664, ISSN 0324-721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ne-Turn Regulated Pushdown Automata and Their Reducti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: Fundamenta Informatica, Vol. 2002, No. 16, Amsterdam, NL, p. 399-405, ISSN 0169-29996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294200"/>
            <a:ext cx="8305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uring a  move,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tom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ted PDA changes a state and, in addition, performs exactly one of the following 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ushes a symbol onto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ops a symbol from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ads an inpu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3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371600"/>
            <a:ext cx="7772400" cy="22096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371600"/>
            <a:ext cx="7924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is accepted by an atomic one-turn PDA regulated by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640" y="365724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39920" y="3885480"/>
            <a:ext cx="75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spiration: Regulated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16758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8120" y="2591280"/>
            <a:ext cx="2590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57142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1827720"/>
            <a:ext cx="228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43426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447920"/>
            <a:ext cx="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5720" y="1294920"/>
            <a:ext cx="23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904040"/>
            <a:ext cx="396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35160" y="5504760"/>
            <a:ext cx="50310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2945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2818440"/>
            <a:ext cx="396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86200" y="5942880"/>
            <a:ext cx="48974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234440"/>
            <a:ext cx="8153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 generate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35}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28492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generate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50840" y="5256720"/>
            <a:ext cx="2907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43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: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3120" y="2609280"/>
            <a:ext cx="37026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ymb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2189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 PDA is based on a finite set of rules of the for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358020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7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7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7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83240" y="2609280"/>
            <a:ext cx="12733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71960" y="5428440"/>
            <a:ext cx="34480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t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6360" y="5428440"/>
            <a:ext cx="35928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nput symbol or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581280" y="3048120"/>
            <a:ext cx="1981440" cy="914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3276720"/>
            <a:ext cx="304920" cy="6858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3276720"/>
            <a:ext cx="38088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505320" y="4723920"/>
            <a:ext cx="457200" cy="68580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5790960" y="4723920"/>
            <a:ext cx="75960" cy="6858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ew Concept: 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134440"/>
            <a:ext cx="335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57142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0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14472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79988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144792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25720" y="1294920"/>
            <a:ext cx="23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1827720"/>
            <a:ext cx="3733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b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82520" y="5961960"/>
            <a:ext cx="510696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2945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827720"/>
            <a:ext cx="2514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59440" y="6038280"/>
            <a:ext cx="49734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218240"/>
            <a:ext cx="81536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56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20896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accept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99320" y="5409360"/>
            <a:ext cx="3340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6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2666880"/>
            <a:ext cx="37339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0600" y="2666160"/>
            <a:ext cx="164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</dc:creator>
  <dc:description/>
  <dc:language>en-US</dc:language>
  <cp:lastModifiedBy>CVT</cp:lastModifiedBy>
  <dcterms:modified xsi:type="dcterms:W3CDTF">2006-08-30T14:10:07Z</dcterms:modified>
  <cp:revision>98</cp:revision>
  <dc:subject/>
  <dc:title>Bez nadpisu</dc:title>
</cp:coreProperties>
</file>